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6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одготовка и передача дел в архив организ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и составлении описи дел структурного подразделения соблюдаются следующие требования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головки дел вносятся в опись в соответствии с принятой схемой систематизации на основе номенклатуры де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ждое дело вносится в опись под самостоятельным порядковым номером (если дело состоит из нескольких томов или частей, то каждый том или часть вносятся в опись под самостоятельным номером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рядок нумерации дел в описи - валовый за несколько лет; порядок присвоения номеров описям структурных подразделений устанавливается по согласованию с архиво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ы описи заполняются в точном соответствии с теми сведениями, которые вынесены на обложку дел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внесении в опись подряд дел с одинаковыми заголовками пишется полностью заголовок первого дела, а все остальные однородные дела обозначаются словами "То же", при этом другие сведения о делах вносятся в опись полностью (на каждом новом листе описи заголовок воспроизводится полностью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а описи "Примечания" используется для отметок о приеме дел, особенностях их физического состояния, о передаче дел другим структурным подразделениям со ссылкой на необходимый акт, о наличии копий и т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аголовки  дел по личному составу систематизируются в следующем порядке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казы (распоряжения) по личному состав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иски личного сост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очки по учету личного сост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ые дела уволившихся сотруд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цевые счета сотруд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востребованные трудовые книж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ы о несчастных случа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состав комплекса работ, проводимых службой делопроизводства при сдаче в архив документов организ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требования к оформлению дел при подготовке их к сдаче в архи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требования к оформлению документов в д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равила составления описей дел постоянного и временного хран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86C4-D559-47C7-A280-204415F4674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270A-69C3-468B-97ED-FFD2B381259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ела постоянного или долговременного хранения, а также конфиденциальные и по личному составу должны быть полностью оформлены с выполнением всех названных правил. Основные задачи, которые ставятся при этом: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 возможное обеспечение прочности и гибкости переплета, позволяют при необходимости скопировать документы, не вынимая их из подшивки, или изъятие одного или нескольких листов из подшитого дела на время, например для реставрации, а может быть и безвозвратно, в случае его переформирования, без нанесения повреждений другим листам де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учета количества листов в каждом деле и возможности проверки полноты дела после каждого обращения к нем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справочного аппарата к документам, включенным в одну единицу хранения для быстроты поиска и нанесения при этом документам минимального ущерба при перелистыв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формление дел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392280"/>
            <a:ext cx="8229600" cy="27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подготовка дела к хранению в соответствии с установленными правил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Стрелка вниз 3"/>
          <p:cNvSpPr/>
          <p:nvPr/>
        </p:nvSpPr>
        <p:spPr>
          <a:xfrm>
            <a:off x="3841920" y="1311120"/>
            <a:ext cx="1752480" cy="186228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олное оформление документов предусматривает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шивку или переплет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умерацию листов в дел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е листа-заверител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е, в необходимых случаях, внутренней опис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сение необходимых уточнений в реквизиты обложки дела (уточнение названия организации, регистрационного индекса дела, заголовка дела, крайних да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ложка дела постоянного, временного (свыше 10 лет) хранения и по личному составу имеет форму, установ­ленную государственным стандартом ГОСТ 17914-72 "Обложки дел длительного хранения. Типы, размеры, технические требования":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менование организации и ее подчиненность на период создания документов, включенных в дел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менование структурного подразделения или направления деятельности в зависимости от структуры опис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опроизводственный индекс дела по номенклатуре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р дела по годовому разделу опис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головок д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та или крайние даты первого и последнего по датам документов д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ичество листов в дел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ок хранения дела или запись «Хранить постоянно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хивный шифр дела, сначала карандашом, а после утверждения описей - чернил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Архивная опись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73492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хивный справочник, содержащий систематизированный перечень единиц хранения, а также предназначенный для их учета и закрепления системат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Стрелка вниз 3"/>
          <p:cNvSpPr/>
          <p:nvPr/>
        </p:nvSpPr>
        <p:spPr>
          <a:xfrm>
            <a:off x="3878280" y="1165320"/>
            <a:ext cx="1716120" cy="1679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писи составляются на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016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постоянного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временного (свыше 10 лет)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по личному составу и иные однотипные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дела, состоящие из специфических, характерных только для данной организации, документов (рационализаторские предложения, судебные и следственные дела, научные отчеты по темам и т.п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ужебные ведомственные из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писательная статья описи дел структурного подразделения включает в себя следующие элементы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ядковый номер дела (тома, части) по опис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екс дела (тома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оловок дела (тома, части), полностью соответствующий его заголовку на обложке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ы дела (тома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листов в деле (томе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ок хранения дела (свыше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ч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46:24Z</dcterms:modified>
  <cp:revision>132</cp:revision>
  <dc:subject/>
  <dc:title>Lecture Template </dc:title>
</cp:coreProperties>
</file>